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7BE-889A-45C7-8D62-B2652C9B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D18-A8D2-4ADD-8A0B-A54315AA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BB4-1309-4873-ADF4-48CC76E8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2AC-BA05-444C-B96B-5EE523E1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125-5438-4B52-AF50-7BF669E8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1E4-3800-4596-A01D-459DC763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064-7CA2-4D26-B10D-A7BE2D60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86B-30BE-43C7-9EDA-0F7FD824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9B4-9301-4ABD-AD12-79FE9AF4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D25-AD12-46E2-B4DB-C5E5CEB9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879-2B88-49D1-9BFB-1EDDCDF3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019-9DB8-4CD3-A9D7-7C5B69B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6EE6-9E92-4AD0-A483-1DB3EE377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neakermestupid.com/wp-content/uploads/2008/02/tradition-westlake-village-ca-9.jpg&amp;imgrefurl=http://sneakermestupid.com/%3Fpage_id%3D13&amp;usg=__5QsvvlfeJxhexVOGEKiDGjpkIdo=&amp;h=406&amp;w=500&amp;sz=102&amp;hl=en&amp;start=16&amp;sig2=P-MQ4Eb7u1or7ZT_1F83KA&amp;um=1&amp;tbnid=HypSejga7j-adM:&amp;tbnh=106&amp;tbnw=130&amp;ei=V0w2SaLsE4fINOKGkKEF&amp;prev=/images%3Fq%3Dtradition%26um%3D1%26hl%3Den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lparkerartist.com/art-gallery/images/15.jpg&amp;imgrefurl=http://www.lparkerartist.com/art-gallery/Inspirational-Oils/15.html&amp;usg=__fbL5f7oZjlygHoZsIIzFPwBeewc=&amp;h=550&amp;w=432&amp;sz=55&amp;hl=en&amp;start=22&amp;sig2=aHQ3tQSwRdcewVd2qyyC-Q&amp;um=1&amp;tbnid=mIjwiWv7ybLLSM:&amp;tbnh=133&amp;tbnw=104&amp;ei=nEw2Sa-2MaX8NIHw7JAI&amp;prev=/images%3Fq%3Dshabbat%2Btradition%26start%3D20%26ndsp%3D20%26um%3D1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mageloop.com/slideshow/72ba007f-169c-1aba-b028-0015c5febdc7/content/b38f21e4-a088-1926-8e89-0015c5febdc7_1197530852033,rw400x/image.jpg&amp;imgrefurl=http://www.myyearbook.com/%3Fmysession%3DcmVnaXN0cmF0aW9uX3Byb2ZpbGUmdXNlcmlkPTEzMDU3NTkx&amp;usg=__nSaQjrrvGoSmG1YlRY9jRi00SWU=&amp;h=400&amp;w=400&amp;sz=45&amp;hl=en&amp;start=19&amp;sig2=WUqdi21Dx67EgdQCTcL0tQ&amp;um=1&amp;tbnid=LSZTvC6mTZ0coM:&amp;tbnh=124&amp;tbnw=124&amp;ei=00w2SeO0LJ3aNK3XiZkI&amp;prev=/images%3Fq%3Dqueen%2Bsheba%2Band%2Bking%2Bsolomon%26um%3D1%26hl%3De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data2.blog.de/media/684/1205684_71a4f26014_m.jpeg&amp;imgrefurl=http://poemsandprose.blog.co.uk/2007/03/01/the_queen_of_sheba~1826085&amp;usg=__BBz_pzaTwbmi72O3XQTARGTnR9g=&amp;h=375&amp;w=261&amp;sz=21&amp;hl=en&amp;start=17&amp;sig2=XX_TVNT0p4IokUvuhw28Ig&amp;um=1&amp;tbnid=Ei5JvlTwisWEpM:&amp;tbnh=122&amp;tbnw=85&amp;ei=fFg2SfniEaOiNbn9rY8I&amp;prev=/images%3Fq%3Dqueen%2Bsheba%26um%3D1%26hl%3Den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sdreams.org/magazine/videophile/Dreams.jpg&amp;imgrefurl=http://www.asdreams.org/videofil.htm&amp;usg=__dPF7CBb2Ozgv3hWFHuWU7OUvAyk=&amp;h=475&amp;w=329&amp;sz=44&amp;hl=en&amp;start=11&amp;sig2=pHxL_upP0AVxicZQG3M7VQ&amp;um=1&amp;tbnid=OtotoVdlgivDNM:&amp;tbnh=129&amp;tbnw=89&amp;ei=Ok02SaLMMKOiNev88Y4I&amp;prev=/images%3Fq%3Ddreams%26um%3D1%26hl%3De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childrenshospital.org/dream/dream_fall06/images/sweet_dreams_650.jpg&amp;imgrefurl=http://www.childrenshospital.org/dream/dream_fall06/sweet_dreams.html&amp;usg=__Hcv3mDDnCOoL38c6-HQlzUT4K64=&amp;h=384&amp;w=500&amp;sz=71&amp;hl=en&amp;start=12&amp;sig2=M0mUyzXigrFDcCHtr8RtqA&amp;um=1&amp;tbnid=9frmz1ovbmEmeM:&amp;tbnh=100&amp;tbnw=130&amp;ei=Ok02SaLMMKOiNev88Y4I&amp;prev=/images%3Fq%3Ddreams%26um%3D1%26hl%3Den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irplane-blog.com/uploaded_images/EA_01-773206.jpg&amp;imgrefurl=http://oznia.wordpress.com/2008/03/13/airport-security-the-israel-way-draft-2/&amp;usg=__JYA1Shm57ys5HRzU7BkPTt-nAqo=&amp;h=716&amp;w=1024&amp;sz=77&amp;hl=en&amp;start=6&amp;sig2=iFL1tjd1SuoN72lUfzUhmg&amp;um=1&amp;tbnid=3ciP1_t1yL5g1M:&amp;tbnh=105&amp;tbnw=150&amp;ei=kU02Sar8LI3ENKzE-IwI&amp;prev=/images%3Fq%3Del%2Bal%2Bplane%2Behtiopia%26um%3D1%26hl%3De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blogster.com/host/images/41597880040.jpg&amp;imgrefurl=http://www.skyscrapercity.com/showthread.php%3Ft%3D292532&amp;usg=__Aus6Bi_uzQMoBk6gabCDXLlsY3k=&amp;h=698&amp;w=1024&amp;sz=244&amp;hl=en&amp;start=1&amp;sig2=xLeDjKELfluztOU9ML8FWg&amp;um=1&amp;tbnid=OeJXrDp-iFbdZM:&amp;tbnh=102&amp;tbnw=150&amp;ei=sU02SbfqM536NN3giZsI&amp;prev=/images%3Fq%3Del%2Bal%2Bplane%26um%3D1%26hl%3Den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c-canada.org/UserFiles/Image/Ethiopia01.gif&amp;imgrefurl=http://usc-canada.org/what-we-do/africa/ethiopia/&amp;usg=__eylSM_SogqTk1-EP0xsWseQdDYc=&amp;h=500&amp;w=447&amp;sz=137&amp;hl=en&amp;start=21&amp;sig2=o2sRLMBVlftwuH7sXXy9fA&amp;um=1&amp;tbnid=c-sP9M3VlnQmvM:&amp;tbnh=130&amp;tbnw=116&amp;ei=KE42SYmrJp36NPDgnZsI&amp;prev=/images%3Fq%3Dagriculture%2Bin%2Bethiopia%26start%3D20%26ndsp%3D20%26um%3D1%26hl%3Den%26sa%3DN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com/imgres?imgurl=http://farm1.static.flickr.com/3/4865796_cc2fb0c60f.jpg%3Fv%3D0&amp;imgrefurl=http://www.flickr.com/photos/phraseling/4865796/in/set-196511/&amp;usg=__LNTB1fYb8DcOYUwLZPQWg-tDwxE=&amp;h=375&amp;w=500&amp;sz=87&amp;hl=en&amp;start=45&amp;sig2=mMewqzWYhUhNFzwb3K-X6g&amp;um=1&amp;tbnid=Oc9f9mQ8ba1uuM:&amp;tbnh=98&amp;tbnw=130&amp;ei=V042SauCMI3ENKfE-IwI&amp;prev=/images%3Fq%3Dagriculture%2Bin%2Bethiopia%26start%3D40%26ndsp%3D20%26um%3D1%26hl%3Den%26sa%3DN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cx.images-amazon.com/images/I/51E3pZPxTIL._SL500_SS130_.jpg&amp;imgrefurl=http://www.amazon.co.uk/gp/tagging/glance/ethiopian%2520jews&amp;usg=__Vmu1UVmpSpVLdbUEFFiUUkFp5pM=&amp;h=130&amp;w=130&amp;sz=7&amp;hl=en&amp;start=20&amp;sig2=3NMGHl3-bL5XjiIwEbKdoA&amp;um=1&amp;tbnid=_D1DNcttkk_nKM:&amp;tbnh=91&amp;tbnw=91&amp;ei=aFE2SeqjAZnmMNqZxZoI&amp;prev=/images%3Fq%3Doperation%2Bsolomon%2Bethiopia%26um%3D1%26hl%3D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ynetnews.com/PicServer2/01082004/516463/D205-103_wa.jpg&amp;imgrefurl=http://www.ynet.co.il/english/articles/0,7340,L-3481891,00.html&amp;usg=__OvwAAqo4QtpBT64FKolHdrX5HtY=&amp;h=258&amp;w=408&amp;sz=22&amp;hl=en&amp;start=19&amp;sig2=HHtyJBMSKwCHIgGmqz9WRg&amp;um=1&amp;tbnid=FUOW0_D-NpxE8M:&amp;tbnh=79&amp;tbnw=125&amp;ei=aFE2SeqjAZnmMNqZxZoI&amp;prev=/images%3Fq%3Doperation%2Bsolomon%2Bethiopia%26um%3D1%26hl%3De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israelity.com/wp-content/uploads/2008/04/300px-Operation_Solomon.jpg&amp;imgrefurl=http://www.israelity.com/%3Fcat%3D10&amp;usg=__Yd0Dh02rmoy64LCGZ3IXydRtiYo=&amp;h=177&amp;w=300&amp;sz=18&amp;hl=en&amp;start=14&amp;sig2=XtxIITOAtevEuczewhAOcA&amp;um=1&amp;tbnid=SqRai2fHY_oVEM:&amp;tbnh=68&amp;tbnw=116&amp;ei=aFE2SeqjAZnmMNqZxZoI&amp;prev=/images%3Fq%3Doperation%2Bsolomon%2Bethiopia%26um%3D1%26hl%3Den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orthrup.org/photos/England/low/royal%2520guard.jpg&amp;imgrefurl=http://www.northrup.org/photos/England/nl-10.htm&amp;usg=__LrwNIB3tzuTLQWDaQ6QKthWPB0U=&amp;h=600&amp;w=399&amp;sz=24&amp;hl=en&amp;start=1&amp;sig2=-HMaEmVu2b2wSmZ5sT1LRw&amp;um=1&amp;tbnid=5XI7aNxb49fglM:&amp;tbnh=135&amp;tbnw=90&amp;ei=Vko2SYLuM5rUMavR9J4I&amp;prev=/images%3Fq%3Dguard%26um%3D1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ourarmstoisrael.org/images/Shabbat.jpg&amp;imgrefurl=http://www.hilleljuc.org/newsletter/milah/2007.10.01.html&amp;usg=__Qwb-MjJTrdMnw_7U7sTZR28oOGI=&amp;h=366&amp;w=533&amp;sz=23&amp;hl=en&amp;start=4&amp;sig2=A8d7--AnGdNBzB-E8kMxFw&amp;um=1&amp;tbnid=ym9gJ2GWsoR4WM:&amp;tbnh=91&amp;tbnw=132&amp;ei=m0o2ScfoAp3aNJfWgZcI&amp;prev=/images%3Fq%3Dorthodox%2Bon%2Bshabbat%2Bjewish%26um%3D1%26hl%3Den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ewishpress.com/UploadedImages/stdImage/450weck-ShabbatDinner.jpg&amp;imgrefurl=http://www.jewishpress.com/pageroute.do/21879/The_Jewish_Gallery.html&amp;usg=__fOrDSq2iqvBasVChqKv_wuDfRws=&amp;h=315&amp;w=400&amp;sz=34&amp;hl=en&amp;start=18&amp;sig2=nkmpPOBbiZFuCHhBFxBCeg&amp;um=1&amp;tbnid=U4WZWaW1bjkAUM:&amp;tbnh=98&amp;tbnw=124&amp;ei=m0o2ScfoAp3aNJfWgZcI&amp;prev=/images%3Fq%3Dorthodox%2Bon%2Bshabbat%2Bjewish%26um%3D1%26hl%3Den%26sa%3D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2.static.flickr.com/1418/575286358_f433d3a74a.jpg%3Fv%3D0&amp;imgrefurl=http://flickr.com/photos/cbmanges/575286358/&amp;usg=__gN140jy4EaR0hP-O8kmq6-lUnSE=&amp;h=500&amp;w=375&amp;sz=207&amp;hl=en&amp;start=7&amp;sig2=NpwgKoJHow6pXeyMBeJucg&amp;um=1&amp;tbnid=pbBH0REw_f4PvM:&amp;tbnh=130&amp;tbnw=98&amp;ei=v0k2SbDHD6X8NJbv-I8I&amp;prev=/images%3Fq%3Dcamp%2Brama%26um%3D1%26hl%3Den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1.blogger.com/_33GzxHTsBX4/RwX0Ul_05XI/AAAAAAAAAsk/QehZ3DeNAa4/s400/Ethiopia%2BOperation%2BSalomon.jpg&amp;imgrefurl=http://philosemitism.blogspot.com/2007_10_01_archive.html&amp;usg=__OL2Ybi280NhsY7qBiT8ICaQPWtM=&amp;h=400&amp;w=266&amp;sz=36&amp;hl=en&amp;start=1&amp;sig2=u_dJCjzSyN1JgU5pFNyYxQ&amp;um=1&amp;tbnid=CFbr-bnOK6JwwM:&amp;tbnh=124&amp;tbnw=82&amp;ei=GEs2SczoCKX8NIHw7JAI&amp;prev=/images%3Fq%3Doperation%2Bslomon%2Bethipia%26um%3D1%26hl%3Den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factsofisrael.com/en/images/gpo/gpo-26556.jpg&amp;imgrefurl=http://factsofisrael.com/blog/archives/000015.html&amp;usg=__opJnmKGyM7kt0xdT9OJhcE8hsQg=&amp;h=282&amp;w=422&amp;sz=27&amp;hl=en&amp;start=3&amp;sig2=LQahq7VyGm5Y8xNN8Crb2Q&amp;um=1&amp;tbnid=-I08dt4xrae2bM:&amp;tbnh=84&amp;tbnw=126&amp;ei=GEs2SczoCKX8NIHw7JAI&amp;prev=/images%3Fq%3Doperation%2Bslomon%2Bethipia%26um%3D1%26hl%3Den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ba.org.il/images/arriving.jpg&amp;imgrefurl=http://sheba.org.il/immigration.php&amp;usg=__qdO55NbSdoANgVppP3hcb6g1hRU=&amp;h=268&amp;w=177&amp;sz=11&amp;hl=en&amp;start=6&amp;sig2=RuP74xmV9iF0OLQY-rLCWA&amp;um=1&amp;tbnid=uqOf1JnMtJkJIM:&amp;tbnh=113&amp;tbnw=75&amp;ei=Nkk2SaqrHJ36NPvgoZsI&amp;prev=/images%3Fq%3Doperation%2Bmoses%2Behtiopia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noahsimblist.files.wordpress.com/2006/09/airlift.jpg&amp;imgrefurl=http://noahsimblist.wordpress.com/&amp;usg=__mSHbrQkngqXWubx6ZpPBSv8RtTs=&amp;h=218&amp;w=369&amp;sz=15&amp;hl=en&amp;start=3&amp;sig2=ivHDb6zIGL7Nr0oxowUIlw&amp;um=1&amp;tbnid=WMSRp67WK4NNNM:&amp;tbnh=72&amp;tbnw=122&amp;ei=Nkk2SaqrHJ36NPvgoZsI&amp;prev=/images%3Fq%3Doperation%2Bmoses%2Behtiopia%26um%3D1%26hl%3Den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ijnland.nl/images/rijnland/thmb/467b8b4b877c1_Fasting%25204.JPG&amp;imgrefurl=http://stuffilikeandstuffidontlike.wordpress.com/page/2/&amp;usg=__8_E8uutRyB-4OHkEf27U9uRdxJ0=&amp;h=308&amp;w=382&amp;sz=23&amp;hl=en&amp;start=22&amp;sig2=S3Dzff4p2KGYkBTOGn-Zig&amp;um=1&amp;tbnid=2tJY_j2l9pRIHM:&amp;tbnh=99&amp;tbnw=123&amp;ei=wUs2Sd79NofYNJnYgJcI&amp;prev=/images%3Fq%3Dfast%2Bon%2Byom%2Bkippur%26start%3D20%26ndsp%3D20%26um%3D1%26hl%3Den%26sa%3D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static.flickr.com/28/51792818_c45f39babb.jpg&amp;imgrefurl=http://www.kvetchingeditor.com/2007/09/may-you-be-inscribed-in-book-of-life.html&amp;usg=__JqA007g8wsSa5CzQqDL2jrX2BRg=&amp;h=306&amp;w=396&amp;sz=48&amp;hl=en&amp;start=26&amp;sig2=P4keKBh8zatRykF_3QisJg&amp;um=1&amp;tbnid=eHyRxYs9o67AKM:&amp;tbnh=96&amp;tbnw=124&amp;ei=wUs2Sd79NofYNJnYgJcI&amp;prev=/images%3Fq%3Dfast%2Bon%2Byom%2Bkippur%26start%3D20%26ndsp%3D20%26um%3D1%26hl%3Den%26sa%3D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defenselink.mil/afis/editors/lineart/YomKippur.jpg&amp;imgrefurl=http://thagoodlifereviews.blogspot.com/2008/10/happy-rosh-hashanayom-kippur.html&amp;usg=___1vst5cBI19ODdhvmJSORxGrWME=&amp;h=1286&amp;w=918&amp;sz=163&amp;hl=en&amp;start=3&amp;sig2=BFzTdNZea-yhO8yEG9xplA&amp;um=1&amp;tbnid=ByecnWqNYvCSxM:&amp;tbnh=150&amp;tbnw=107&amp;ei=sUs2SYObKaOiNef88Y4I&amp;prev=/images%3Fq%3Dfast%2Bon%2Byom%2Bkippur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ancarrow-webdesk.com/warehouse/storage2/2008-w19/img.220573_t.jpg&amp;imgrefurl=http://www.nancarrow-webdesk.com/warehouse/storage2/2008-w19/img.220573.html&amp;usg=__n9LSyWjS9wT1fBCFH8Fowy9mOeQ=&amp;h=329&amp;w=400&amp;sz=22&amp;hl=en&amp;start=14&amp;sig2=cvaVnjsf7f7wl5KrtfqcMQ&amp;um=1&amp;tbnid=r89D73TA-WVglM:&amp;tbnh=102&amp;tbnw=124&amp;ei=K0w2SdvDMIfYNO7X_JYI&amp;prev=/images%3Fq%3Dman%2Brests%26um%3D1%26hl%3Den%26sa%3D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ev.com/hadag/lazuz.jpg&amp;imgrefurl=http://www.teev.com/hadag/&amp;usg=__N-cZA7RvPHjDwR8PUJ7TF806sfQ=&amp;h=430&amp;w=435&amp;sz=43&amp;hl=en&amp;start=2&amp;sig2=qpdUUtrBdos3zubEs1VUXg&amp;um=1&amp;tbnid=Z8jN9D-EJpWyLM:&amp;tbnh=125&amp;tbnw=126&amp;ei=eks2SfynLIfINOKGkKEF&amp;prev=/images%3Fq%3Dto%2Bmove%2B%2Blazuz%26um%3D1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neakermestupid.com/wp-content/uploads/2008/02/tradition-westlake-village-ca-9.jpg&amp;imgrefurl=http://sneakermestupid.com/%3Fpage_id%3D13&amp;usg=__5QsvvlfeJxhexVOGEKiDGjpkIdo=&amp;h=406&amp;w=500&amp;sz=102&amp;hl=en&amp;start=16&amp;sig2=P-MQ4Eb7u1or7ZT_1F83KA&amp;um=1&amp;tbnid=HypSejga7j-adM:&amp;tbnh=106&amp;tbnw=130&amp;ei=V0w2SaLsE4fINOKGkKEF&amp;prev=/images%3Fq%3Dtradition%26um%3D1%26hl%3Den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lparkerartist.com/art-gallery/images/15.jpg&amp;imgrefurl=http://www.lparkerartist.com/art-gallery/Inspirational-Oils/15.html&amp;usg=__fbL5f7oZjlygHoZsIIzFPwBeewc=&amp;h=550&amp;w=432&amp;sz=55&amp;hl=en&amp;start=22&amp;sig2=aHQ3tQSwRdcewVd2qyyC-Q&amp;um=1&amp;tbnid=mIjwiWv7ybLLSM:&amp;tbnh=133&amp;tbnw=104&amp;ei=nEw2Sa-2MaX8NIHw7JAI&amp;prev=/images%3Fq%3Dshabbat%2Btradition%26start%3D20%26ndsp%3D20%26um%3D1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mageloop.com/slideshow/72ba007f-169c-1aba-b028-0015c5febdc7/content/b38f21e4-a088-1926-8e89-0015c5febdc7_1197530852033,rw400x/image.jpg&amp;imgrefurl=http://www.myyearbook.com/%3Fmysession%3DcmVnaXN0cmF0aW9uX3Byb2ZpbGUmdXNlcmlkPTEzMDU3NTkx&amp;usg=__nSaQjrrvGoSmG1YlRY9jRi00SWU=&amp;h=400&amp;w=400&amp;sz=45&amp;hl=en&amp;start=19&amp;sig2=WUqdi21Dx67EgdQCTcL0tQ&amp;um=1&amp;tbnid=LSZTvC6mTZ0coM:&amp;tbnh=124&amp;tbnw=124&amp;ei=00w2SeO0LJ3aNK3XiZkI&amp;prev=/images%3Fq%3Dqueen%2Bsheba%2Band%2Bking%2Bsolomon%26um%3D1%26hl%3Den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ba.org.il/images/arriving.jpg&amp;imgrefurl=http://sheba.org.il/immigration.php&amp;usg=__qdO55NbSdoANgVppP3hcb6g1hRU=&amp;h=268&amp;w=177&amp;sz=11&amp;hl=en&amp;start=6&amp;sig2=RuP74xmV9iF0OLQY-rLCWA&amp;um=1&amp;tbnid=uqOf1JnMtJkJIM:&amp;tbnh=113&amp;tbnw=75&amp;ei=Nkk2SaqrHJ36NPvgoZsI&amp;prev=/images%3Fq%3Doperation%2Bmoses%2Behtiopia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noahsimblist.files.wordpress.com/2006/09/airlift.jpg&amp;imgrefurl=http://noahsimblist.wordpress.com/&amp;usg=__mSHbrQkngqXWubx6ZpPBSv8RtTs=&amp;h=218&amp;w=369&amp;sz=15&amp;hl=en&amp;start=3&amp;sig2=ivHDb6zIGL7Nr0oxowUIlw&amp;um=1&amp;tbnid=WMSRp67WK4NNNM:&amp;tbnh=72&amp;tbnw=122&amp;ei=Nkk2SaqrHJ36NPvgoZsI&amp;prev=/images%3Fq%3Doperation%2Bmoses%2Behtiopia%26um%3D1%26hl%3Den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cx.images-amazon.com/images/I/51E3pZPxTIL._SL500_SS130_.jpg&amp;imgrefurl=http://www.amazon.co.uk/gp/tagging/glance/ethiopian%2520jews&amp;usg=__Vmu1UVmpSpVLdbUEFFiUUkFp5pM=&amp;h=130&amp;w=130&amp;sz=7&amp;hl=en&amp;start=20&amp;sig2=3NMGHl3-bL5XjiIwEbKdoA&amp;um=1&amp;tbnid=_D1DNcttkk_nKM:&amp;tbnh=91&amp;tbnw=91&amp;ei=aFE2SeqjAZnmMNqZxZoI&amp;prev=/images%3Fq%3Doperation%2Bsolomon%2Bethiopia%26um%3D1%26hl%3D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ynetnews.com/PicServer2/01082004/516463/D205-103_wa.jpg&amp;imgrefurl=http://www.ynet.co.il/english/articles/0,7340,L-3481891,00.html&amp;usg=__OvwAAqo4QtpBT64FKolHdrX5HtY=&amp;h=258&amp;w=408&amp;sz=22&amp;hl=en&amp;start=19&amp;sig2=HHtyJBMSKwCHIgGmqz9WRg&amp;um=1&amp;tbnid=FUOW0_D-NpxE8M:&amp;tbnh=79&amp;tbnw=125&amp;ei=aFE2SeqjAZnmMNqZxZoI&amp;prev=/images%3Fq%3Doperation%2Bsolomon%2Bethiopia%26um%3D1%26hl%3De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israelity.com/wp-content/uploads/2008/04/300px-Operation_Solomon.jpg&amp;imgrefurl=http://www.israelity.com/%3Fcat%3D10&amp;usg=__Yd0Dh02rmoy64LCGZ3IXydRtiYo=&amp;h=177&amp;w=300&amp;sz=18&amp;hl=en&amp;start=14&amp;sig2=XtxIITOAtevEuczewhAOcA&amp;um=1&amp;tbnid=SqRai2fHY_oVEM:&amp;tbnh=68&amp;tbnw=116&amp;ei=aFE2SeqjAZnmMNqZxZoI&amp;prev=/images%3Fq%3Doperation%2Bsolomon%2Bethiopia%26um%3D1%26hl%3Den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c-canada.org/UserFiles/Image/Ethiopia01.gif&amp;imgrefurl=http://usc-canada.org/what-we-do/africa/ethiopia/&amp;usg=__eylSM_SogqTk1-EP0xsWseQdDYc=&amp;h=500&amp;w=447&amp;sz=137&amp;hl=en&amp;start=21&amp;sig2=o2sRLMBVlftwuH7sXXy9fA&amp;um=1&amp;tbnid=c-sP9M3VlnQmvM:&amp;tbnh=130&amp;tbnw=116&amp;ei=KE42SYmrJp36NPDgnZsI&amp;prev=/images%3Fq%3Dagriculture%2Bin%2Bethiopia%26start%3D20%26ndsp%3D20%26um%3D1%26hl%3Den%26sa%3DN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com/imgres?imgurl=http://farm1.static.flickr.com/3/4865796_cc2fb0c60f.jpg%3Fv%3D0&amp;imgrefurl=http://www.flickr.com/photos/phraseling/4865796/in/set-196511/&amp;usg=__LNTB1fYb8DcOYUwLZPQWg-tDwxE=&amp;h=375&amp;w=500&amp;sz=87&amp;hl=en&amp;start=45&amp;sig2=mMewqzWYhUhNFzwb3K-X6g&amp;um=1&amp;tbnid=Oc9f9mQ8ba1uuM:&amp;tbnh=98&amp;tbnw=130&amp;ei=V042SauCMI3ENKfE-IwI&amp;prev=/images%3Fq%3Dagriculture%2Bin%2Bethiopia%26start%3D40%26ndsp%3D20%26um%3D1%26hl%3Den%26sa%3DN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sdreams.org/magazine/videophile/Dreams.jpg&amp;imgrefurl=http://www.asdreams.org/videofil.htm&amp;usg=__dPF7CBb2Ozgv3hWFHuWU7OUvAyk=&amp;h=475&amp;w=329&amp;sz=44&amp;hl=en&amp;start=11&amp;sig2=pHxL_upP0AVxicZQG3M7VQ&amp;um=1&amp;tbnid=OtotoVdlgivDNM:&amp;tbnh=129&amp;tbnw=89&amp;ei=Ok02SaLMMKOiNev88Y4I&amp;prev=/images%3Fq%3Ddreams%26um%3D1%26hl%3De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childrenshospital.org/dream/dream_fall06/images/sweet_dreams_650.jpg&amp;imgrefurl=http://www.childrenshospital.org/dream/dream_fall06/sweet_dreams.html&amp;usg=__Hcv3mDDnCOoL38c6-HQlzUT4K64=&amp;h=384&amp;w=500&amp;sz=71&amp;hl=en&amp;start=12&amp;sig2=M0mUyzXigrFDcCHtr8RtqA&amp;um=1&amp;tbnid=9frmz1ovbmEmeM:&amp;tbnh=100&amp;tbnw=130&amp;ei=Ok02SaLMMKOiNev88Y4I&amp;prev=/images%3Fq%3Ddreams%26um%3D1%26hl%3Den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irplane-blog.com/uploaded_images/EA_01-773206.jpg&amp;imgrefurl=http://oznia.wordpress.com/2008/03/13/airport-security-the-israel-way-draft-2/&amp;usg=__JYA1Shm57ys5HRzU7BkPTt-nAqo=&amp;h=716&amp;w=1024&amp;sz=77&amp;hl=en&amp;start=6&amp;sig2=iFL1tjd1SuoN72lUfzUhmg&amp;um=1&amp;tbnid=3ciP1_t1yL5g1M:&amp;tbnh=105&amp;tbnw=150&amp;ei=kU02Sar8LI3ENKzE-IwI&amp;prev=/images%3Fq%3Del%2Bal%2Bplane%2Behtiopia%26um%3D1%26hl%3De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blogster.com/host/images/41597880040.jpg&amp;imgrefurl=http://www.skyscrapercity.com/showthread.php%3Ft%3D292532&amp;usg=__Aus6Bi_uzQMoBk6gabCDXLlsY3k=&amp;h=698&amp;w=1024&amp;sz=244&amp;hl=en&amp;start=1&amp;sig2=xLeDjKELfluztOU9ML8FWg&amp;um=1&amp;tbnid=OeJXrDp-iFbdZM:&amp;tbnh=102&amp;tbnw=150&amp;ei=sU02SbfqM536NN3giZsI&amp;prev=/images%3Fq%3Del%2Bal%2Bplane%26um%3D1%26hl%3Den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2.static.flickr.com/1418/575286358_f433d3a74a.jpg%3Fv%3D0&amp;imgrefurl=http://flickr.com/photos/cbmanges/575286358/&amp;usg=__gN140jy4EaR0hP-O8kmq6-lUnSE=&amp;h=500&amp;w=375&amp;sz=207&amp;hl=en&amp;start=7&amp;sig2=NpwgKoJHow6pXeyMBeJucg&amp;um=1&amp;tbnid=pbBH0REw_f4PvM:&amp;tbnh=130&amp;tbnw=98&amp;ei=v0k2SbDHD6X8NJbv-I8I&amp;prev=/images%3Fq%3Dcamp%2Brama%26um%3D1%26hl%3Den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farm4.static.flickr.com/3181/2492408593_05546be8ff.jpg%3Fv%3D0&amp;imgrefurl=http://flickr.com/photos/pavan/2492408593/&amp;usg=___-NAn8RgOEiOa0fOACnk0RvbflU=&amp;h=500&amp;w=333&amp;sz=80&amp;hl=en&amp;start=6&amp;sig2=Aw89uvDiTW67V0al4f01qg&amp;um=1&amp;tbnid=4nQej4H1fZ0BgM:&amp;tbnh=130&amp;tbnw=87&amp;ei=v0k2SbDHD6X8NJbv-I8I&amp;prev=/images%3Fq%3Dcamp%2Brama%26um%3D1%26hl%3Den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art.officehounds.com/Berkshireslogo.jpg&amp;imgrefurl=http://start.officehounds.com/home2&amp;usg=__82jTkO1Psa0AX4H7ZIXLUfxx30k=&amp;h=1017&amp;w=1006&amp;sz=152&amp;hl=en&amp;start=3&amp;sig2=eyl519D-akG1YBAlqjftEQ&amp;um=1&amp;tbnid=__cp7mVehOw2qM:&amp;tbnh=150&amp;tbnw=148&amp;ei=C0o2SZ62KJ36NPvgoZsI&amp;prev=/images%3Fq%3Dcamp%2Bramah%26um%3D1%26hl%3Den%26sa%3DX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orthrup.org/photos/England/low/royal%2520guard.jpg&amp;imgrefurl=http://www.northrup.org/photos/England/nl-10.htm&amp;usg=__LrwNIB3tzuTLQWDaQ6QKthWPB0U=&amp;h=600&amp;w=399&amp;sz=24&amp;hl=en&amp;start=1&amp;sig2=-HMaEmVu2b2wSmZ5sT1LRw&amp;um=1&amp;tbnid=5XI7aNxb49fglM:&amp;tbnh=135&amp;tbnw=90&amp;ei=Vko2SYLuM5rUMavR9J4I&amp;prev=/images%3Fq%3Dguard%26um%3D1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ourarmstoisrael.org/images/Shabbat.jpg&amp;imgrefurl=http://www.hilleljuc.org/newsletter/milah/2007.10.01.html&amp;usg=__Qwb-MjJTrdMnw_7U7sTZR28oOGI=&amp;h=366&amp;w=533&amp;sz=23&amp;hl=en&amp;start=4&amp;sig2=A8d7--AnGdNBzB-E8kMxFw&amp;um=1&amp;tbnid=ym9gJ2GWsoR4WM:&amp;tbnh=91&amp;tbnw=132&amp;ei=m0o2ScfoAp3aNJfWgZcI&amp;prev=/images%3Fq%3Dorthodox%2Bon%2Bshabbat%2Bjewish%26um%3D1%26hl%3Den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ewishpress.com/UploadedImages/stdImage/450weck-ShabbatDinner.jpg&amp;imgrefurl=http://www.jewishpress.com/pageroute.do/21879/The_Jewish_Gallery.html&amp;usg=__fOrDSq2iqvBasVChqKv_wuDfRws=&amp;h=315&amp;w=400&amp;sz=34&amp;hl=en&amp;start=18&amp;sig2=nkmpPOBbiZFuCHhBFxBCeg&amp;um=1&amp;tbnid=U4WZWaW1bjkAUM:&amp;tbnh=98&amp;tbnw=124&amp;ei=m0o2ScfoAp3aNJfWgZcI&amp;prev=/images%3Fq%3Dorthodox%2Bon%2Bshabbat%2Bjewish%26um%3D1%26hl%3Den%26sa%3D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1.blogger.com/_33GzxHTsBX4/RwX0Ul_05XI/AAAAAAAAAsk/QehZ3DeNAa4/s400/Ethiopia%2BOperation%2BSalomon.jpg&amp;imgrefurl=http://philosemitism.blogspot.com/2007_10_01_archive.html&amp;usg=__OL2Ybi280NhsY7qBiT8ICaQPWtM=&amp;h=400&amp;w=266&amp;sz=36&amp;hl=en&amp;start=1&amp;sig2=u_dJCjzSyN1JgU5pFNyYxQ&amp;um=1&amp;tbnid=CFbr-bnOK6JwwM:&amp;tbnh=124&amp;tbnw=82&amp;ei=GEs2SczoCKX8NIHw7JAI&amp;prev=/images%3Fq%3Doperation%2Bslomon%2Bethipia%26um%3D1%26hl%3Den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factsofisrael.com/en/images/gpo/gpo-26556.jpg&amp;imgrefurl=http://factsofisrael.com/blog/archives/000015.html&amp;usg=__opJnmKGyM7kt0xdT9OJhcE8hsQg=&amp;h=282&amp;w=422&amp;sz=27&amp;hl=en&amp;start=3&amp;sig2=LQahq7VyGm5Y8xNN8Crb2Q&amp;um=1&amp;tbnid=-I08dt4xrae2bM:&amp;tbnh=84&amp;tbnw=126&amp;ei=GEs2SczoCKX8NIHw7JAI&amp;prev=/images%3Fq%3Doperation%2Bslomon%2Bethipia%26um%3D1%26hl%3Den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ev.com/hadag/lazuz.jpg&amp;imgrefurl=http://www.teev.com/hadag/&amp;usg=__N-cZA7RvPHjDwR8PUJ7TF806sfQ=&amp;h=430&amp;w=435&amp;sz=43&amp;hl=en&amp;start=2&amp;sig2=qpdUUtrBdos3zubEs1VUXg&amp;um=1&amp;tbnid=Z8jN9D-EJpWyLM:&amp;tbnh=125&amp;tbnw=126&amp;ei=eks2SfynLIfINOKGkKEF&amp;prev=/images%3Fq%3Dto%2Bmove%2B%2Blazuz%26um%3D1%26hl%3Den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musicfromisrael.com/mm5/graphics/00000001/Hed-009-lg.jpg&amp;imgrefurl=http://www.musicfromisrael.com/mm5/merchant.mvc%3FScreen%3DPROD2%26Store_Code%3DMFI%26Product_Code%3DHed-64399%26Category_Code%3DA-066&amp;usg=__vEWCHuH802w7gUy1H8viq6Rvlgg=&amp;h=300&amp;w=300&amp;sz=131&amp;hl=en&amp;start=7&amp;sig2=BwmoBiVK6ZgN0Ft_pG60RA&amp;um=1&amp;tbnid=veLdiJqPy4MwZM:&amp;tbnh=116&amp;tbnw=116&amp;ei=31U2SfbcI43eMIPg4ZQI&amp;prev=/images%3Fq%3Dlazuz%26um%3D1%26hl%3Den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ijnland.nl/images/rijnland/thmb/467b8b4b877c1_Fasting%25204.JPG&amp;imgrefurl=http://stuffilikeandstuffidontlike.wordpress.com/page/2/&amp;usg=__8_E8uutRyB-4OHkEf27U9uRdxJ0=&amp;h=308&amp;w=382&amp;sz=23&amp;hl=en&amp;start=22&amp;sig2=S3Dzff4p2KGYkBTOGn-Zig&amp;um=1&amp;tbnid=2tJY_j2l9pRIHM:&amp;tbnh=99&amp;tbnw=123&amp;ei=wUs2Sd79NofYNJnYgJcI&amp;prev=/images%3Fq%3Dfast%2Bon%2Byom%2Bkippur%26start%3D20%26ndsp%3D20%26um%3D1%26hl%3Den%26sa%3D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static.flickr.com/28/51792818_c45f39babb.jpg&amp;imgrefurl=http://www.kvetchingeditor.com/2007/09/may-you-be-inscribed-in-book-of-life.html&amp;usg=__JqA007g8wsSa5CzQqDL2jrX2BRg=&amp;h=306&amp;w=396&amp;sz=48&amp;hl=en&amp;start=26&amp;sig2=P4keKBh8zatRykF_3QisJg&amp;um=1&amp;tbnid=eHyRxYs9o67AKM:&amp;tbnh=96&amp;tbnw=124&amp;ei=wUs2Sd79NofYNJnYgJcI&amp;prev=/images%3Fq%3Dfast%2Bon%2Byom%2Bkippur%26start%3D20%26ndsp%3D20%26um%3D1%26hl%3Den%26sa%3D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defenselink.mil/afis/editors/lineart/YomKippur.jpg&amp;imgrefurl=http://thagoodlifereviews.blogspot.com/2008/10/happy-rosh-hashanayom-kippur.html&amp;usg=___1vst5cBI19ODdhvmJSORxGrWME=&amp;h=1286&amp;w=918&amp;sz=163&amp;hl=en&amp;start=3&amp;sig2=BFzTdNZea-yhO8yEG9xplA&amp;um=1&amp;tbnid=ByecnWqNYvCSxM:&amp;tbnh=150&amp;tbnw=107&amp;ei=sUs2SYObKaOiNef88Y4I&amp;prev=/images%3Fq%3Dfast%2Bon%2Byom%2Bkippur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ancarrow-webdesk.com/warehouse/storage2/2008-w19/img.220573_t.jpg&amp;imgrefurl=http://www.nancarrow-webdesk.com/warehouse/storage2/2008-w19/img.220573.html&amp;usg=__n9LSyWjS9wT1fBCFH8Fowy9mOeQ=&amp;h=329&amp;w=400&amp;sz=22&amp;hl=en&amp;start=14&amp;sig2=cvaVnjsf7f7wl5KrtfqcMQ&amp;um=1&amp;tbnid=r89D73TA-WVglM:&amp;tbnh=102&amp;tbnw=124&amp;ei=K0w2SdvDMIfYNO7X_JYI&amp;prev=/images%3Fq%3Dman%2Brests%26um%3D1%26hl%3Den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delivery.superstock.com/WI/223/1530/PreviewComp/SuperStock_1530R-35365.jpg&amp;imgrefurl=http://www.superstock.co.uk/stock-photos-images/1530R-35365&amp;usg=__nR88zs2r13gh7zE_3GORvqlmscw=&amp;h=350&amp;w=233&amp;sz=44&amp;hl=en&amp;start=29&amp;sig2=RFekDbc_PIinrtJjncaQuQ&amp;um=1&amp;tbnid=rfl6NkFuJsmxaM:&amp;tbnh=120&amp;tbnw=80&amp;ei=NVg2SY_xBY-aNaS5pJEI&amp;prev=/images%3Fq%3Dman%2Brests%26start%3D20%26ndsp%3D20%26um%3D1%26hl%3Den%26sa%3D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הודי אתיופ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בצע  משה    ,  מחנה ,  מחנות ,שומ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צום   לטוס   לזוז  לנוח חלו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סורת   חקלאות  מלך  מלכ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סור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2438280"/>
            <a:ext cx="3886200" cy="3168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1752480"/>
            <a:ext cx="27795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לך / מלכ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752480"/>
            <a:ext cx="4419720" cy="4419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7640" y="1752480"/>
            <a:ext cx="2070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לום / חלומ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83080" y="1828800"/>
            <a:ext cx="2417760" cy="350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104920"/>
            <a:ext cx="4724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טוס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 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טס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במטוס של   "אל ע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357280"/>
            <a:ext cx="3505320" cy="2452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457360"/>
            <a:ext cx="48006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חקלאות   באתיופי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37280" y="1905120"/>
            <a:ext cx="3211560" cy="360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508120"/>
            <a:ext cx="36576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בצע שלמה"  (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93356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809880"/>
            <a:ext cx="3505320" cy="2216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1996920"/>
            <a:ext cx="285768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4    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הוא  עוש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מ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295280"/>
            <a:ext cx="2997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  _ _ _ _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ב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מ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666880"/>
            <a:ext cx="2476440" cy="1706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2817720"/>
            <a:ext cx="3733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חנ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895480"/>
            <a:ext cx="2814480" cy="3733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495680" y="2666880"/>
            <a:ext cx="2308320" cy="3448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086600" y="1752480"/>
            <a:ext cx="13334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_ _ _ _  לישראל  מאתיופ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טסו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2493720" cy="3771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50532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בצע  משה " (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057400"/>
            <a:ext cx="2579760" cy="38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712960"/>
            <a:ext cx="4114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א  לאכו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 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לצו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916280"/>
            <a:ext cx="342900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4876920"/>
            <a:ext cx="2171880" cy="1681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2286000"/>
            <a:ext cx="1251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הוא  עושה ?  הו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נח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1916280"/>
            <a:ext cx="3390840" cy="27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ה  זה   לזוז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ov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897200"/>
            <a:ext cx="35812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סור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897200"/>
            <a:ext cx="2743200" cy="223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4960" y="2666880"/>
            <a:ext cx="20635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 _ _ _     ו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  _  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לכ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לך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7524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" _ _ _ _   משה  "   (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בצע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523880"/>
            <a:ext cx="3186000" cy="4800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363840"/>
            <a:ext cx="3657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" _ _ _ _  שלמ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בצ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9335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3962520"/>
            <a:ext cx="3886200" cy="245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43200" y="1886040"/>
            <a:ext cx="3048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מה  הם עובד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חקלאות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37280" y="1905120"/>
            <a:ext cx="3211560" cy="360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508120"/>
            <a:ext cx="36576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לילה   יש ל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חלומות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828800"/>
            <a:ext cx="2162160" cy="3133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2514600"/>
            <a:ext cx="31240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טוס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570040"/>
            <a:ext cx="320040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819520"/>
            <a:ext cx="25905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חנה  /  מחנ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438280"/>
            <a:ext cx="2814480" cy="373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2666880"/>
            <a:ext cx="2308320" cy="3448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1752480"/>
            <a:ext cx="13334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ומר  (לשמור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הוא שומר על המלכ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9810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ומר שב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666880"/>
            <a:ext cx="2476440" cy="170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2817720"/>
            <a:ext cx="3733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טס /  לטוס  (הם טסו)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6000" y="1676520"/>
            <a:ext cx="2922840" cy="4419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318780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ז  /  לזוז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897200"/>
            <a:ext cx="4038480" cy="4008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40048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ם  /  לצום  ( הם צמו)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916280"/>
            <a:ext cx="3733920" cy="300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3886200"/>
            <a:ext cx="2171880" cy="1681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1752480"/>
            <a:ext cx="1251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נח /  לנוח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1916280"/>
            <a:ext cx="3390840" cy="2788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4280" y="1981080"/>
            <a:ext cx="2387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8:46:54Z</dcterms:created>
  <dc:creator>Preferred Customer</dc:creator>
  <dc:description/>
  <dc:language>en-US</dc:language>
  <cp:lastModifiedBy>aschlezinger</cp:lastModifiedBy>
  <dcterms:modified xsi:type="dcterms:W3CDTF">2011-02-17T18:28:18Z</dcterms:modified>
  <cp:revision>2</cp:revision>
  <dc:subject/>
  <dc:title>יהודי אתיופיה </dc:title>
</cp:coreProperties>
</file>